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60955"/>
        <c:axId val="49987744"/>
      </c:barChart>
      <c:catAx>
        <c:axId val="94960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87744"/>
        <c:crosses val="autoZero"/>
        <c:auto val="1"/>
        <c:lblAlgn val="ctr"/>
        <c:lblOffset val="100"/>
        <c:noMultiLvlLbl val="0"/>
      </c:catAx>
      <c:valAx>
        <c:axId val="49987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60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CC4-890A-4F32-9C81-F0725001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D63-EFB2-46F2-BCA4-8DF14264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46E-2727-4644-8204-8884CC01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30A-B9E1-4D99-927F-6FA5BE0F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CB7-B73A-4A14-AE05-B13B87C5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7AA-49DD-473E-8616-92507831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3BC-1A08-4971-90CF-A80075ED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42E-F5A3-4C96-928E-F33A8E0B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747-920E-47FC-BF1A-5C98C337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63E-6A0D-42BC-B7BD-10CC77CB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9A4-868D-4637-997E-9F2CE022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D40-31DF-4D6B-95C4-7B9C1A65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2C94E-4978-405C-A0F8-A999AC7962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