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91230"/>
        <c:axId val="44991437"/>
      </c:barChart>
      <c:catAx>
        <c:axId val="24091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91437"/>
        <c:crosses val="autoZero"/>
        <c:auto val="1"/>
        <c:lblAlgn val="ctr"/>
        <c:lblOffset val="100"/>
        <c:noMultiLvlLbl val="0"/>
      </c:catAx>
      <c:valAx>
        <c:axId val="449914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91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ED6-9B8A-423F-A92A-7F2C414D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6AE-A8F4-426F-A5C6-EDAC7906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C39-46EF-40C2-802B-D5079E65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07C-AB43-402E-B486-0902121B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601-284B-4740-A876-AB3C89D1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B36-1DC3-400E-A216-FD0E7971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A94-D797-4F01-85E6-ABCB39D7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EFB-83FE-45F4-BA97-D64D3B05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5CD-40A1-4418-BDB3-80ABDFF2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43E-67DF-442B-B7EC-E7659210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D13-1B16-485E-98F3-3561A73A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41C-2FF8-4562-ACB2-EEF78595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47496-822A-4ACD-B4D6-CDCB40D193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