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0046"/>
        <c:axId val="44663977"/>
      </c:barChart>
      <c:catAx>
        <c:axId val="8320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63977"/>
        <c:crosses val="autoZero"/>
        <c:auto val="1"/>
        <c:lblAlgn val="ctr"/>
        <c:lblOffset val="100"/>
        <c:noMultiLvlLbl val="0"/>
      </c:catAx>
      <c:valAx>
        <c:axId val="44663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0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794-318F-4AE0-8DF5-A7C0F40B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2B7-6649-4BB7-A76E-5ADD3350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D87-E3FE-4962-BC5E-C4272F2D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7A4-2709-4A6B-B3E8-1BF36E3F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BF6-CDD4-4F3D-A63D-FC136D88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D9B-C1AA-41F2-9135-7943BFA5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F62-4592-4F57-B4B7-9F2BCF08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FB3-867F-45A1-AA4E-31B69C57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E9C-109E-48E9-B0C0-7DBC8D19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BB0-F462-421A-89AF-69CEFDDC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583-AD0D-4748-BC3E-ED80D96E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1DF-2DB3-49A2-9AB4-BF725600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D6410-B220-48D7-9C37-784E861524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