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038689"/>
        <c:axId val="50645388"/>
      </c:barChart>
      <c:catAx>
        <c:axId val="570386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45388"/>
        <c:crosses val="autoZero"/>
        <c:auto val="1"/>
        <c:lblAlgn val="ctr"/>
        <c:lblOffset val="100"/>
        <c:noMultiLvlLbl val="0"/>
      </c:catAx>
      <c:valAx>
        <c:axId val="506453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0386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F163-924F-4076-BD5C-217102CF1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45D5-34B4-41F4-BF8F-50C36DBF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E20E-78DD-48C9-BB35-756FC8C8A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A1D4-E095-4146-B5F9-063F6E078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406F-F886-45BC-9032-201F09D8F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12E6-23E1-4EC5-B5F1-D7F853CC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01A8-ECB5-4B2E-8EF7-EBBD1B10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FBBC-61B3-41A9-95A9-586B9C8B2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80D2-65EF-43D3-B862-01EB0257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4D5D-2DC4-4A25-B50C-B8497C9A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860A-9580-4B85-8118-9D48F050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6D52-DE55-4C93-9C29-58B2DF06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D6B2FB-2F4D-418D-BBA1-BFB33401ED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