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53582"/>
        <c:axId val="62649676"/>
      </c:barChart>
      <c:catAx>
        <c:axId val="54753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49676"/>
        <c:crosses val="autoZero"/>
        <c:auto val="1"/>
        <c:lblAlgn val="ctr"/>
        <c:lblOffset val="100"/>
        <c:noMultiLvlLbl val="0"/>
      </c:catAx>
      <c:valAx>
        <c:axId val="62649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53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7B2-640D-4313-A2B4-2AB4F7AE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5D4-27B9-4A71-9291-B59A9C7D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88A-F60C-4916-901A-524C061D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1C6-6B67-479C-AAE0-D2CDB443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E6A-ACA7-4F91-85F3-8DDE3898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610-4C16-45DE-B2E1-F3B1AE56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979-A54C-4770-91EF-8122AFE0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3E1-C4FE-41BF-83D5-7A19729C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8C2-82CA-41A4-88D2-388A64E1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BCB-EA61-4C95-AB11-3C9BF0ED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F8F-790F-491F-AD3B-1DC33AB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584-50D7-44DF-B190-8B0ECAF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76CBA-70F7-4E75-96F7-0BACCF7A76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