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74136"/>
        <c:axId val="60713114"/>
      </c:barChart>
      <c:catAx>
        <c:axId val="18674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13114"/>
        <c:crosses val="autoZero"/>
        <c:auto val="1"/>
        <c:lblAlgn val="ctr"/>
        <c:lblOffset val="100"/>
        <c:noMultiLvlLbl val="0"/>
      </c:catAx>
      <c:valAx>
        <c:axId val="60713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74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768-D0DB-4632-88F9-319DFC35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AD0-3636-4640-9652-6DFAD93B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2D4-F900-4DD2-AF9A-D7790D05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6A6-9236-4488-8214-D8FC5504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431-24C2-46A1-AF97-51F71838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C94-D597-4AD1-9ABF-FD414A9A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7D3-CCB9-4C0E-A860-85AD8F29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6D1-DD64-41A4-91A2-E4E4236E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6E4-5763-44D7-B475-59BAA27D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045-7FA1-46E8-AD6D-4B2FC572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2C8-AA2E-4676-9FF1-3DAD75C5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C80-0BE9-42DC-80CE-10A94802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64A1B-22C5-483F-8724-454A788D71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