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69971"/>
        <c:axId val="13380269"/>
      </c:barChart>
      <c:catAx>
        <c:axId val="21569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80269"/>
        <c:crosses val="autoZero"/>
        <c:auto val="1"/>
        <c:lblAlgn val="ctr"/>
        <c:lblOffset val="100"/>
        <c:noMultiLvlLbl val="0"/>
      </c:catAx>
      <c:valAx>
        <c:axId val="13380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69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C45-A580-439B-AB35-032BA8D7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305-607F-49E0-B363-52A023EF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94A-DF75-4B0D-9A5A-0C2DA9DC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4FE-EF58-4D9D-94A5-EFF2ED24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8E0-5CA5-4E1C-918C-087CD483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32E-D9D8-42FB-9247-AEE306BC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EF4-BF1E-46E5-9B7D-37AEA85D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63B-6B2A-4EDF-87D5-089A51C4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7CF-8F33-4A80-B42E-7EF87629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1BF-EE25-4794-AD9E-92FE837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24F-9BD1-41E4-9527-4D605398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9CB-2387-4914-8D27-42AE0ECB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FCB16-FD8E-4756-86EA-187CD5376F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