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65556"/>
        <c:axId val="70677608"/>
      </c:barChart>
      <c:catAx>
        <c:axId val="76665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77608"/>
        <c:crosses val="autoZero"/>
        <c:auto val="1"/>
        <c:lblAlgn val="ctr"/>
        <c:lblOffset val="100"/>
        <c:noMultiLvlLbl val="0"/>
      </c:catAx>
      <c:valAx>
        <c:axId val="70677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65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958-4176-4928-ABD5-0604002D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B2F-B0FB-48CB-8E16-67E0C13B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BEE-79CE-4FD7-8D97-06C4D398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E5F-8007-4D3C-A5B4-1F8C44BD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EC7-20F9-4FE6-860A-AEFDDBE7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DF8-FF61-46CC-A44F-C07B11B0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E91-8FCC-42CC-84D2-23537ECE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9C0-F705-49D4-92E3-EA055B97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259-F746-41F9-80C6-EC5F1367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711-1264-4A7A-8CB0-77D7B968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FE8-08D6-4C95-A6F5-7870426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52D-99DD-4A24-8E29-285E931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738B-EF30-4AFF-81AE-40D6423647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