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75983"/>
        <c:axId val="20865542"/>
      </c:barChart>
      <c:catAx>
        <c:axId val="372759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65542"/>
        <c:crosses val="autoZero"/>
        <c:auto val="1"/>
        <c:lblAlgn val="ctr"/>
        <c:lblOffset val="100"/>
        <c:noMultiLvlLbl val="0"/>
      </c:catAx>
      <c:valAx>
        <c:axId val="20865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759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CD0C-B64C-433C-86D6-09E3F48E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AB6-2C31-4CE5-B13E-D2FFE9D3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9CF-3425-4661-8CE9-7ABEEE1B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245A-7B81-4AB7-89C4-14166B54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9B86-47F4-4458-8858-A3F301AD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833F-7A58-4F4C-8A91-24B2BCCC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D381-335D-45B2-9958-5F7FCD56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A678-408B-4F79-A680-EB8BB0DC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E106-9233-4C61-9824-87BDF546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D709-267F-4B90-8F79-95A804C3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8112-460E-4259-BEE5-4714C6D3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AE0D-026E-4FDE-801C-B58A7D4E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4754B-AD53-47C1-A850-8CFBB3DEA7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