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14997"/>
        <c:axId val="47001482"/>
      </c:barChart>
      <c:catAx>
        <c:axId val="41214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01482"/>
        <c:crosses val="autoZero"/>
        <c:auto val="1"/>
        <c:lblAlgn val="ctr"/>
        <c:lblOffset val="100"/>
        <c:noMultiLvlLbl val="0"/>
      </c:catAx>
      <c:valAx>
        <c:axId val="47001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14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B8C-5560-4BCC-8A5D-52968FA1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F97-8BF2-4CAE-9DE5-040BA31A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357-F50E-483B-BE7E-EC5B2F2D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CB8-D79D-4ACE-8E39-D2E66A40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83B-F9BB-4618-9E81-A86AB0C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F1B-6A0E-417E-B969-BC41703F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944-8E5B-463B-B3FD-FBD24C88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EB8-6EE3-429D-BAE4-C0041A43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9FA-EFB4-4DE4-913E-D011225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902-98A5-489B-9B37-13B48E2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EE1-FD0C-46A4-A10D-6C0FAA1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531-26DE-4393-B49F-B5A8D6E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CB21D-13CE-4FCD-A6E8-A7FD9F81B2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