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06315"/>
        <c:axId val="48403048"/>
      </c:barChart>
      <c:catAx>
        <c:axId val="78906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03048"/>
        <c:crosses val="autoZero"/>
        <c:auto val="1"/>
        <c:lblAlgn val="ctr"/>
        <c:lblOffset val="100"/>
        <c:noMultiLvlLbl val="0"/>
      </c:catAx>
      <c:valAx>
        <c:axId val="48403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06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C1DC-26AF-44B2-BBC2-5115BA2D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D77-76FF-48F1-8330-F3F0B0A3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AB5-7027-4F8C-9233-78395BBC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2CB-E587-42FA-A803-4B284DC8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85A-6197-4919-9348-4E363FFA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AA2-4F54-438D-A5CB-CA9F7EE1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DEE-D352-4047-B8FA-05626F8A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2E0-44F8-4CE1-BFFF-CA2905F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756-24A3-4963-9AD5-D8DE5BCC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165D-3CEA-4627-85BB-891D87FB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82D-4F32-43D0-9BBD-DE275635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67A-1655-4102-AEB5-FA7A4FA7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7BE7F-CD27-4001-BADC-06A786AC03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