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56863"/>
        <c:axId val="12329202"/>
      </c:barChart>
      <c:catAx>
        <c:axId val="76456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9202"/>
        <c:crosses val="autoZero"/>
        <c:auto val="1"/>
        <c:lblAlgn val="ctr"/>
        <c:lblOffset val="100"/>
        <c:noMultiLvlLbl val="0"/>
      </c:catAx>
      <c:valAx>
        <c:axId val="12329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6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ED0-6AEF-4985-A423-B21F54FC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B12-F0AE-49BF-92C9-99102FE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B11-82CE-4629-A3BC-713C339E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814-3ABB-4F85-912E-8246E2F1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774-9989-42C4-B935-DB8500A7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9CB-7CBC-4BE6-8844-880AFE72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0A5-E97A-497A-A94C-2EDC31F7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F83-E002-4D0B-AF03-6791E7A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C34-C675-403D-9873-4D4CF73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938-7FFF-4A16-B99F-F80DE2C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942-A7C5-4C80-96B6-3D9DB59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C20-17FB-43F7-B44C-1D08C97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D897-8414-4FFC-A34E-B9EE3D511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