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569169"/>
        <c:axId val="48734680"/>
      </c:barChart>
      <c:catAx>
        <c:axId val="395691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734680"/>
        <c:crosses val="autoZero"/>
        <c:auto val="1"/>
        <c:lblAlgn val="ctr"/>
        <c:lblOffset val="100"/>
        <c:noMultiLvlLbl val="0"/>
      </c:catAx>
      <c:valAx>
        <c:axId val="487346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5691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F26C-ED15-4FF1-A333-84FAB83E3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C1AD-561A-4948-AA8D-A2F17D4AF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6AF3-012D-4738-AEB4-3CD952B64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76C8-6DA1-4E80-9D09-CB75D45AB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89D0-A95E-4175-8D7C-B7F29555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A3B0-12ED-4CF4-8B13-8FC254DFC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84A9-4E15-4466-9AAF-B712E553F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A647-82C5-49DD-986F-6EAC2736E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C7F3-B14C-4315-B3E6-7BC9F92F7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44BB-90DA-41B0-B49A-047A9E98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27CF-7E77-4EE9-834F-BC21D804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2700-7214-442D-A08F-6BF313E7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C6F2F2-63BA-432A-8334-FDD2F2688AD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