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09613"/>
        <c:axId val="5712465"/>
      </c:barChart>
      <c:catAx>
        <c:axId val="86509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2465"/>
        <c:crosses val="autoZero"/>
        <c:auto val="1"/>
        <c:lblAlgn val="ctr"/>
        <c:lblOffset val="100"/>
        <c:noMultiLvlLbl val="0"/>
      </c:catAx>
      <c:valAx>
        <c:axId val="57124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09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179-B9BC-4177-9374-73A9F270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52A-EEDB-404D-878F-E27E2D4D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143-C396-4ED9-8240-6160F3C6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5398-2713-4C99-B712-63B4C35B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BE5-AB33-4FE8-8742-84A5F9EB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0426-00E9-4939-89C4-61616C66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4C8-380C-4BDF-A28B-587AC93F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499-44C5-43D1-918D-7207C8AD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F36-16A0-4E2B-BC70-ACC39C94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7834-C5C0-41C0-BA32-48B4D177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133F-2304-4DBA-801C-E96F4764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510-C215-40B2-AD78-2AA842E9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E9589-C7F7-4F8A-BA88-FE8BF068C8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