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27544"/>
        <c:axId val="22286985"/>
      </c:barChart>
      <c:catAx>
        <c:axId val="559275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86985"/>
        <c:crosses val="autoZero"/>
        <c:auto val="1"/>
        <c:lblAlgn val="ctr"/>
        <c:lblOffset val="100"/>
        <c:noMultiLvlLbl val="0"/>
      </c:catAx>
      <c:valAx>
        <c:axId val="222869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275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452-97DF-4F43-A6F8-8EC3D64C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7B7-0D60-43E5-9C0C-B3EA3C98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608F-9AD9-4074-A406-52426951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F525-471C-4862-83B4-7551A292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389-FA4D-4367-93B1-D30EC591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39C6-5252-4514-B003-F898760F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05D9-0A7E-44DA-9EC2-C6D25D78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40C4-AD40-41C5-BE25-BFD2D1E2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3CB-694C-4225-9E80-6D04926F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A932-BD9A-4BB6-A1EA-A0E2A57C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B3DA-A419-4F03-8E8E-539B1669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08D-58C9-4060-89F8-9DCA94F1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EF6C3-9338-477A-87C0-21604CFD34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