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51386"/>
        <c:axId val="75681344"/>
      </c:barChart>
      <c:catAx>
        <c:axId val="43751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81344"/>
        <c:crosses val="autoZero"/>
        <c:auto val="1"/>
        <c:lblAlgn val="ctr"/>
        <c:lblOffset val="100"/>
        <c:noMultiLvlLbl val="0"/>
      </c:catAx>
      <c:valAx>
        <c:axId val="75681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1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A5E-ACAB-4FF3-8E1A-2A318306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630-72E9-422F-8B7D-0ED02E92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073-1F5E-41DF-89A7-9F1489C0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90F-E721-4639-BB2B-439691B4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BC5-F064-4265-A6B7-84CE3F8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33F-5E4E-4F8E-B4AE-1FECD229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FA0-DE2D-4A90-96F3-93077B47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477-24C5-4235-A4B6-038C5968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7E3-B9E0-4F6C-A260-50E86534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ABD-F0C8-4043-B69C-E98F49E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5EA-8A6F-410A-9B12-3754563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5E4-34F7-49EC-B066-11A9392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AAC44-9FCE-4547-8A18-02E366669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